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56F-2CE2-4104-BB91-C2BA9CF9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688-C5F1-48C7-9DD8-D7B0DD53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026-AAF3-4295-B5AE-FCD9364A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F36-A420-4DBE-B2CE-79263C7D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69F-C724-4F54-AAD6-996D49C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ECA-D198-4672-8C7F-8CCF896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B11-3EB1-49D5-BEA0-32441C4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93E-ACE6-4E79-B01B-B8395D39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A51-095B-4604-8AE7-22441BC8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540-3E5C-47D0-9BBC-3EEA8FD9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D39-1AAE-4078-A097-FF80C3D0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D3D-B0F3-45EC-888E-CAB92696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7B3D-D129-4C34-9706-B650263057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abyex.png"/>
          <p:cNvPicPr/>
          <p:nvPr/>
        </p:nvPicPr>
        <p:blipFill>
          <a:blip r:embed="rId1"/>
          <a:stretch/>
        </p:blipFill>
        <p:spPr>
          <a:xfrm>
            <a:off x="928800" y="855720"/>
            <a:ext cx="2055600" cy="154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each &amp; Moun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>
            <a:hlinkClick r:id="" action="ppaction://hlinkshowjump?jump=nextslide"/>
          </p:cNvPr>
          <p:cNvSpPr/>
          <p:nvPr/>
        </p:nvSpPr>
        <p:spPr>
          <a:xfrm>
            <a:off x="642960" y="642960"/>
            <a:ext cx="2571840" cy="1857240"/>
          </a:xfrm>
          <a:prstGeom prst="rect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babyex.png"/>
          <p:cNvPicPr/>
          <p:nvPr/>
        </p:nvPicPr>
        <p:blipFill>
          <a:blip r:embed="rId1"/>
          <a:stretch/>
        </p:blipFill>
        <p:spPr>
          <a:xfrm>
            <a:off x="928800" y="855720"/>
            <a:ext cx="2055600" cy="154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beach.jpg"/>
          <p:cNvPicPr/>
          <p:nvPr/>
        </p:nvPicPr>
        <p:blipFill>
          <a:blip r:embed="rId2"/>
          <a:stretch/>
        </p:blipFill>
        <p:spPr>
          <a:xfrm>
            <a:off x="928800" y="857160"/>
            <a:ext cx="2057400" cy="1536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each &amp; Moun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babyex.png"/>
          <p:cNvPicPr/>
          <p:nvPr/>
        </p:nvPicPr>
        <p:blipFill>
          <a:blip r:embed="rId1"/>
          <a:stretch/>
        </p:blipFill>
        <p:spPr>
          <a:xfrm>
            <a:off x="928800" y="855720"/>
            <a:ext cx="2055600" cy="15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beach.jpg"/>
          <p:cNvPicPr/>
          <p:nvPr/>
        </p:nvPicPr>
        <p:blipFill>
          <a:blip r:embed="rId2"/>
          <a:stretch/>
        </p:blipFill>
        <p:spPr>
          <a:xfrm>
            <a:off x="928800" y="857160"/>
            <a:ext cx="2057400" cy="153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each &amp; Moun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6:31:48Z</dcterms:created>
  <dc:creator>John Wilson</dc:creator>
  <dc:description/>
  <dc:language>en-US</dc:language>
  <cp:lastModifiedBy>John Wilson</cp:lastModifiedBy>
  <dcterms:modified xsi:type="dcterms:W3CDTF">2008-02-15T06:47:12Z</dcterms:modified>
  <cp:revision>2</cp:revision>
  <dc:subject/>
  <dc:title>Slide 1</dc:title>
</cp:coreProperties>
</file>